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5.png" ContentType="image/png"/>
  <Override PartName="/ppt/media/image3.pct" ContentType="image/x-pict"/>
  <Override PartName="/ppt/media/image4.jpeg" ContentType="image/jpeg"/>
  <Override PartName="/ppt/media/image6.jpeg" ContentType="image/jpeg"/>
  <Override PartName="/ppt/media/image8.png" ContentType="image/png"/>
  <Override PartName="/ppt/media/image7.pct" ContentType="image/x-pict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A127-6652-49D5-B57C-87652F49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21C-5208-441A-B1B5-30687B37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A3D3-2335-4A1E-97B4-316736CC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BEE-4CD5-466C-B7FA-29B9A022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0E9-C503-4198-AD80-DD8D96ED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3A0D-4414-470C-A432-47FF9C5A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5437-1006-4BC2-B6AD-88496CD2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ED7-6D2F-4DA6-A1FB-DA44F88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6580-72F5-4431-B747-D5AB5C1D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128-6094-4FD1-B156-9C506351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EB22-5B71-4668-8498-5529EC39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6A5D-BC11-4EEC-98D9-FCFE25E4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CC66-5D25-4985-981B-3B9DB734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ologies in Biomedicine</a:t>
            </a:r>
            <a:br>
              <a:rPr sz="44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A. Mu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ford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19920" y="152280"/>
            <a:ext cx="2971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284120"/>
            <a:ext cx="9144000" cy="5573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Portion of the OBO Libr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dimensions for characterizing ont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rge vs. Sm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FMA vs. SOFG Anatomy Entry 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oad vs. D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UMLS Semantic Network vs. CY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” vs. He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e.g., Gene Ontology vs. F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ndamental parado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and other ontologies became popular because they assumed a simple semantics that required little of develo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ck of rich semantics has enabled errors to creep into ontologies such as GO and the meaning of terms and relations to dr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ontology developers are now turning to rich representation formalisms (e.g., OWL) to overcome these problems—but are they shooting themselves in the foot by doing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66680" y="1138320"/>
            <a:ext cx="7315200" cy="57196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GO is elegant in its simplic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543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-1731960" y="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there are clear advantages to having richer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distinguished paneli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ristopher Chu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and Chair, Department of Medical Informatics, the Mayo Cli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zanna Lew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enior Staff Scientist, Lawrence Berkeley Nationa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rry Smi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rofessor of Philosophy, University at Buff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hat is the “right” amount of seman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697200" cy="449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ational Center for Biomedical Ont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5587920"/>
            <a:ext cx="9144000" cy="1270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ree National Centers for Biomedical Computing launched by NIH in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of Stanford, Berkeley, Mayo, Buffalo, Victoria, UCSF, Oregon, and Cam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goal is to make ontologies accessible and us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will develop technologies for ontology indexing, alignment, and 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11280"/>
            <a:ext cx="77724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5560" indent="0" algn="ctr">
              <a:spcAft>
                <a:spcPts val="11"/>
              </a:spcAft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718320"/>
                <a:tab algn="l" pos="7632720"/>
                <a:tab algn="l" pos="854712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evelop an Ontolog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ha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structure of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software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people and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nabl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u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dom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“re-inventing the wheel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01"/>
              </a:spcBef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introduce standards to allow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1520" y="1676520"/>
            <a:ext cx="598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preme genu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4880" y="2529000"/>
            <a:ext cx="740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ODY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PI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490680" y="20718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teri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m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469080" y="290988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nimat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inan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531360" y="3672000"/>
            <a:ext cx="82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ensitiv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in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5840" y="3290760"/>
            <a:ext cx="85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ubordin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IVING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I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44320" y="4129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Proximate genera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NIM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L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5600" y="496728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Specie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HUMAN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BE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464760" y="4510080"/>
            <a:ext cx="79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Differentiae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ational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irra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687960" y="6186600"/>
            <a:ext cx="88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ook Antiqua"/>
              </a:rPr>
              <a:t>Individuals: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ocrates       Plato      Aristotl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962160" y="1981080"/>
            <a:ext cx="53316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263200" y="1960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6658560" y="23490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134320" y="2806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658560" y="31111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058360" y="356832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658560" y="39492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5058360" y="4406400"/>
            <a:ext cx="47520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65066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132520" y="5243040"/>
            <a:ext cx="1632600" cy="103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4828680" y="5243040"/>
            <a:ext cx="969120" cy="99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4545000" y="5247360"/>
            <a:ext cx="155520" cy="1015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664800" y="5243760"/>
            <a:ext cx="706320" cy="1088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3991320" y="23490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915360" y="3187080"/>
            <a:ext cx="474840" cy="25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3762720" y="3949200"/>
            <a:ext cx="474840" cy="25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3763440" y="4787280"/>
            <a:ext cx="474480" cy="25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886200" y="28195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886200" y="3581280"/>
            <a:ext cx="5335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09880" y="4419720"/>
            <a:ext cx="5335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rphyry’s depiction of Aristotle’s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69012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mall Portion of ICD9-C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041480"/>
            <a:ext cx="6934320" cy="74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s of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 than cerv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unspecified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thoracic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lumbar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0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al stenosis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in in thoracic sp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mb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i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racic or lumbosacral neuri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ache, unspec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sac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orders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pecified disorder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permobility of coccy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7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ccygody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ymptoms referable to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4.9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unspecified back dis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undational Model of Anat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-304920" y="1095480"/>
            <a:ext cx="9753840" cy="57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>
            <a:off x="-720" y="-76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CI Thesaurus in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43000" y="757080"/>
            <a:ext cx="7315200" cy="57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2T05:04:01Z</dcterms:created>
  <dc:creator>Mark Musen</dc:creator>
  <dc:description/>
  <dc:language>en-US</dc:language>
  <cp:lastModifiedBy>Mark Musen</cp:lastModifiedBy>
  <dcterms:modified xsi:type="dcterms:W3CDTF">2005-10-26T13:34:09Z</dcterms:modified>
  <cp:revision>50</cp:revision>
  <dc:subject/>
  <dc:title>Ontologies in Biomedicine AMIA Tutorial 25 October 23, 2005</dc:title>
</cp:coreProperties>
</file>